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43199"/>
        <c:axId val="20836384"/>
      </c:barChart>
      <c:catAx>
        <c:axId val="56843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36384"/>
        <c:crosses val="autoZero"/>
        <c:auto val="1"/>
        <c:lblAlgn val="ctr"/>
        <c:lblOffset val="100"/>
        <c:noMultiLvlLbl val="0"/>
      </c:catAx>
      <c:valAx>
        <c:axId val="208363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43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3A7B-BC74-4C44-95C8-DA6027E2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CFB-9BCA-46D3-B6ED-79466ED3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28C-0E45-4890-8943-9878D42B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D25C-D040-4E99-9D76-C19B2209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305C-5081-43CF-961A-32949166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10A-4033-4B2A-AAC1-B70D857F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0126-B162-4AE9-854B-E3875B14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600-C1FF-4504-BA1D-873156E2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87E-5AB1-45B3-9E98-7AFC3027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529-DA9F-4D95-834A-324A8130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9FA-66C0-4906-95D1-7BE62E02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7BFD-38BC-451A-AD38-52FFB6B2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AA880-BC2B-46DA-9342-9CB758DC89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