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68927"/>
        <c:axId val="71580915"/>
      </c:barChart>
      <c:catAx>
        <c:axId val="56068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0915"/>
        <c:crosses val="autoZero"/>
        <c:auto val="1"/>
        <c:lblAlgn val="ctr"/>
        <c:lblOffset val="100"/>
        <c:noMultiLvlLbl val="0"/>
      </c:catAx>
      <c:valAx>
        <c:axId val="71580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68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C546-E055-4018-ABFD-96A902EA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7C9-ADB5-400E-9486-A8191537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ED8-ABA9-44D7-85F4-A8D0E9AD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9E2-AC7A-4196-8270-A58EE37E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3DB-D795-4D03-9909-B2B3C5AD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7DF-9879-4545-9E12-A93AF990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807-5CB9-4CE9-B08C-B451D2D3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97C-DFAC-4175-888D-E843187F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AD5-99F4-420C-8046-D3939174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D43-ECF9-41FE-94A3-78BED708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5E0-2BCF-429F-A26D-4E94DC15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942-13FC-4066-82B7-8956EC5F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52FDF-F5A6-47E0-A421-5C05C1B6DF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