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709998"/>
        <c:axId val="94446054"/>
      </c:barChart>
      <c:catAx>
        <c:axId val="947099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46054"/>
        <c:crosses val="autoZero"/>
        <c:auto val="1"/>
        <c:lblAlgn val="ctr"/>
        <c:lblOffset val="100"/>
        <c:noMultiLvlLbl val="0"/>
      </c:catAx>
      <c:valAx>
        <c:axId val="944460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099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1F9F-4148-4FD2-9915-8BE593C4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C565-FB78-441C-9DF3-B7F372A5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760C-4575-432F-89ED-AE9500EB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8654-5883-4393-A1EA-3D5B2131D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AA9B-0C59-4BDB-8391-B06B4368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C5DE-2229-47D2-9932-FF70857D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7ACA-E5B2-4DD0-8571-F8F8225B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418B-1965-408D-9B44-14ACD32E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BF3C-F711-470C-87C6-D8FDA14A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2495-BB63-4210-98DD-78D1C070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BD9F-0C6F-4E62-8F86-572FA4CA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0C79-7B3A-4ABE-A744-F51B750C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934BB-5BCF-4F96-9AA4-5DECE86469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